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E3D-F137-445F-9A15-EA4A925F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9BE-5E29-4683-A2D8-2663CBF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203-D62B-4A3B-81D3-87A1C837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AE8-8E97-4760-9470-B55B503C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6B05-3EAF-4D21-B437-DB4500B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6617-3648-493D-B60F-457037C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79EB-3596-4B7E-ABDB-FF0A8B0C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E1DD-D078-41EA-B589-5A91DD84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3431-CDB6-4C9A-9413-C8F52FF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C7D4-AB9C-4032-9A23-B02835E5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836-B636-4F97-A1D7-31FF638C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88E-46F1-40AF-9190-B581BF2F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B06C-BA65-4A35-9AC8-8DDDBC0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F17D-EF1A-4470-BC8E-61ABFB2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EC2D-AB80-490D-B128-7C4870B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C1A-6671-4B99-A733-68322866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F0DD-A095-4E14-BED9-D15C0C02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41E-68D8-4D1F-A737-40533CBC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395-148D-4BB2-AFDA-535E54E2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37F-746C-48C0-B2F0-9C3CD23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77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A56-99ED-4A3D-95BA-36DF39D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E1F-066F-49C5-8F36-CF321A4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0C7-9670-4C55-B53D-76A306D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11D-8D98-43F3-9214-4D5BF805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477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CE7C-5E49-4592-8A69-40998904EFCF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4169-0EB6-47E6-84F0-423A12277764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ctors in a Plan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rtoon Brea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19060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QM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17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e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venient way to solve problems involving vector quantities is by using straight arrows called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cto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the arrow represents the magnitude of the quantity, and the arrows point out the dir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ngth of the arrows are determined using an appropriate scale, which must always be written next to the vect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les for Vector Addi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ctors may be added in any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ail of a new vector is attached to the head of the preceding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ultant Vec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lways directed from the tail of the first to the head of the l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displacement is the vector sum of all displac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boys push on a rock in the same direction, each with a force of 10N.  Draw the vector diagram and resultant v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: 0.5cm = 1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 1            Boy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cm              5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0N             =10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nt Vector = 10cm = 20N to th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: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20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358128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5720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net displacement if the 4 displacements shown are applied on an ob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ote that representational diagram does not follow vector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419076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90920" y="4190760"/>
            <a:ext cx="3808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350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4191120"/>
            <a:ext cx="10666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505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5181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net displacement would be found regardless of the order in which the vectors were ad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00200" y="236232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133360"/>
            <a:ext cx="15238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13372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590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2767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05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26668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boys fight over a toy.  One runs with it a distance of 40m north, another a distance of 30m east, and the third a distance of 50m in a direction 5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 south of west.  What is the net displacement of the t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m                                    3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m    50m (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m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m                               (Vector Dia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epresentational Diagra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no resultant vector can be drawn, the net displacement is “0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219320" y="22860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09480" y="3276720"/>
            <a:ext cx="60984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34120" y="17524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7524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1752480"/>
            <a:ext cx="914400" cy="1828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9:21:22Z</dcterms:created>
  <dc:creator>Chantal Burns</dc:creator>
  <dc:description/>
  <dc:language>en-US</dc:language>
  <cp:lastModifiedBy>nbdoe</cp:lastModifiedBy>
  <dcterms:modified xsi:type="dcterms:W3CDTF">2007-09-24T13:20:46Z</dcterms:modified>
  <cp:revision>6</cp:revision>
  <dc:subject/>
  <dc:title>Vectors in a Plane</dc:title>
</cp:coreProperties>
</file>